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2F8-8C12-40E9-8F26-763691AC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EFF-AD63-4854-9140-5C2D0130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7FE-8F41-4500-A291-08252A4A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115-0F47-46A7-B303-5790B8B2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4D20-856C-4D71-BA9F-D5B3D07F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8F91-22F3-448F-8BF0-4B53CE7C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44AB-9300-4E4E-903F-BA8ED113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A920-3AEF-479E-A4C6-38216919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E980-4C7B-4910-A584-A6570F47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F350-E9A4-4E61-B08C-FF5F2E76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324D-2173-4670-80EA-03916292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15A-A12B-4A4D-AF1F-72F6ECA7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6066-6460-45CF-999E-142E9D80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F622-498C-4E66-8E9E-99BCA7AE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A718-70B3-4EED-9282-D163E985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09FD-62A7-4DD9-B558-913208C3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2FF2-D7AC-412F-ADD6-F581A7F3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A68-B167-492C-AD77-CB366FA4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A8F-26D4-4B5E-91ED-D73DB82E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8AE-C9F0-42F7-88DF-C0150589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CB7-B7F5-4087-85EE-07F00CE1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B2D-E5A8-48D2-9F87-34DE6F22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26E-A1D3-45D5-B52B-F4734A50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38B-BD68-497D-A925-AA70C071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FE62-EA64-4AAD-93AA-5E95CA18AA7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C5F5-491C-4749-856A-95E8EB05F40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01760" y="-1085760"/>
            <a:ext cx="7920000" cy="2689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28640" y="1752480"/>
            <a:ext cx="5715000" cy="4772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В мире художественного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слова Жозефа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Рони – Старшег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8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8" descr="j0090386"/>
          <p:cNvPicPr/>
          <p:nvPr/>
        </p:nvPicPr>
        <p:blipFill>
          <a:blip r:embed="rId2"/>
          <a:stretch/>
        </p:blipFill>
        <p:spPr>
          <a:xfrm>
            <a:off x="0" y="2205000"/>
            <a:ext cx="34923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17г-  «Загадка драгоценного камн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2г - «Удивительное путешествие Гертона Айронкастл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4г - «Сверхъестественный убийц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7г - «Навигаторы бесконечности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4г - «Спутники Вселенной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5г - «Вампир Бетнал Грин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лавным направлением творчества писателя оставалась научная </a:t>
            </a: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фантастика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4000" spc="-1" strike="noStrike">
                <a:solidFill>
                  <a:srgbClr val="0000ff"/>
                </a:solidFill>
                <a:latin typeface="Vivaldi"/>
              </a:rPr>
              <a:t>разновидность художественной литературы, отражающая мир причудливых, нереальных образов, событий, герое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3780000" y="1844640"/>
            <a:ext cx="1439640" cy="1440000"/>
          </a:xfrm>
          <a:prstGeom prst="downArrow">
            <a:avLst>
              <a:gd name="adj1" fmla="val 42009"/>
              <a:gd name="adj2" fmla="val 2503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Жозеф Рони-Старший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награжден Орденом Почётного Легиона (1897г.), с 1926 года стал президентом Гонкуровской академ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с 1980 года  во Франции вручается премия Жозефа Рони-Старшего за лучшее произведение в жанре научной фантастики по двум номинациям - роман и новелл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Борьба за огонь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аши впечатления от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аткое изложение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ем был опасен именно серый медведь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лагодаря чему юношам удалось одержать победу над сильным и опасным хищником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шите повадки, движения Нао. О каких качествах юноши они говоря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е в тексте отрывок о поединке и подготовьтесь к выразительному чтению фраг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ить на вопросы 8-9 после повести (с. 222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дготовиться к тесту по содержанию повести «Борьба за огонь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дивидуально- подготовить сообщения о биографии и творчестве Джека Лондо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дведение итог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биографией какого зарубежного автора вы познакомились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каким произведением вы познакомилис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6" descr="Пушок"/>
          <p:cNvPicPr/>
          <p:nvPr/>
        </p:nvPicPr>
        <p:blipFill>
          <a:blip r:embed="rId1"/>
          <a:stretch/>
        </p:blipFill>
        <p:spPr>
          <a:xfrm>
            <a:off x="2843280" y="227664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7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8000" spc="-1" strike="noStrike">
                <a:solidFill>
                  <a:srgbClr val="0000ff"/>
                </a:solidFill>
                <a:latin typeface="Vivaldi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569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Книга- всегда погружение в    удивительную тайну. Она готова   открыться вам – приложите усилия. Она готова беседовать с вами – найдите душевные силы для этого разговора. Она готова служить вам- откройте для неё сердце и ум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. С. Мерки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481120" y="-6480"/>
            <a:ext cx="7491600" cy="1202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биографией Ж. Рони-Старшег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произведением Ж. Рони- Старшего «Борьба за огонь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ирование навыков работы с текстом, выразительного чт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554200" y="-6480"/>
            <a:ext cx="749160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39280" y="1557360"/>
            <a:ext cx="8425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роверка домашнего задания (терминологическая размин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Изучение нового материал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Доклады учащихся о биографии и творчестве Жозефа Рони-Старшег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) Изучение произведения «Борьба за огон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Домашнее зада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Подведение итог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74680" y="-585720"/>
            <a:ext cx="8588160" cy="221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Vivaldi"/>
              </a:rPr>
              <a:t>Раскройте значение термин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втобиограф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тите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гуме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ха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фор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1752120"/>
            <a:ext cx="8496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9. Герой литератур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0.Гипербо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1.Гротес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2. Деталь художественна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3. Диало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4. Жан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5. Завяз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6. Загад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7. Идея художественна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.Инверс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9. Интон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ранцузский писатель Жозеф Рони-Старший (1856-1940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Содержимое 3" descr="Roni-starshiy_J__A_-P002_.jpg"/>
          <p:cNvPicPr/>
          <p:nvPr/>
        </p:nvPicPr>
        <p:blipFill>
          <a:blip r:embed="rId1"/>
          <a:stretch/>
        </p:blipFill>
        <p:spPr>
          <a:xfrm>
            <a:off x="250920" y="1844640"/>
            <a:ext cx="324144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80000" y="1752120"/>
            <a:ext cx="536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Жозеф Анри Рони-старший — это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псевдоним</a:t>
            </a: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 французского  писателя Жозефа Анри Бёкса.  Писатель  творил свои произведения  вместе с младшим братом Серафеном Жюстеном Франсуа, взявшим позднее псевдоним Рони-младший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65164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87г- «Ксипехузы», «Манифест пят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2г- «Вамирэ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6г- «Эйрима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8г- «Смерть Земл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9г– «Борьба за огонь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20г-«Гигантская кошка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30г -«Хельевор с Голубой рек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Содержимое 3" descr="Zhozef_RoniStarshij.jpg"/>
          <p:cNvPicPr/>
          <p:nvPr/>
        </p:nvPicPr>
        <p:blipFill>
          <a:blip r:embed="rId1"/>
          <a:stretch/>
        </p:blipFill>
        <p:spPr>
          <a:xfrm>
            <a:off x="514836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2:37:59Z</dcterms:created>
  <dc:creator>ШКОЛЬНИК</dc:creator>
  <dc:description/>
  <dc:language>en-US</dc:language>
  <cp:lastModifiedBy>Физика</cp:lastModifiedBy>
  <dcterms:modified xsi:type="dcterms:W3CDTF">2012-04-14T02:39:59Z</dcterms:modified>
  <cp:revision>14</cp:revision>
  <dc:subject/>
  <dc:title>Урок литературы в 5 классе</dc:title>
</cp:coreProperties>
</file>